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FB08-1E38-4407-882B-891EB0F8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4A1D-157B-41D9-85C9-902837B8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BCB2-D831-4C1A-BD3E-A259A020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7EAC-F0D8-4426-9B7D-4A0579B7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3B63-67E5-4C0B-8874-DC659851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74D0-A5FC-4B8A-BAA4-4E991DED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501F-B797-46F5-8D62-66A15658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39AC-31C5-4856-816D-FCFDC989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1D3A-5C51-400F-ADA9-8F7502BA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F536-DAB2-401A-A543-631276D9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77D4-9320-4D82-98E2-20EAA249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0236-0783-445B-8100-F83BE154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6692-A25D-489C-80F8-FAC3638DF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43000" y="76320"/>
            <a:ext cx="6629400" cy="6629400"/>
            <a:chOff x="1143000" y="76320"/>
            <a:chExt cx="6629400" cy="6629400"/>
          </a:xfrm>
        </p:grpSpPr>
        <p:sp>
          <p:nvSpPr>
            <p:cNvPr id="42" name=""/>
            <p:cNvSpPr/>
            <p:nvPr/>
          </p:nvSpPr>
          <p:spPr>
            <a:xfrm>
              <a:off x="1143000" y="76320"/>
              <a:ext cx="6629400" cy="6629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495680" y="152280"/>
              <a:ext cx="0" cy="647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19320" y="3429000"/>
              <a:ext cx="655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8:37:54Z</dcterms:created>
  <dc:creator>Dina Winterton</dc:creator>
  <dc:description/>
  <dc:language>en-US</dc:language>
  <cp:lastModifiedBy>Dina Winterton</cp:lastModifiedBy>
  <dcterms:modified xsi:type="dcterms:W3CDTF">2010-03-24T18:42:17Z</dcterms:modified>
  <cp:revision>4</cp:revision>
  <dc:subject/>
  <dc:title>Slide 1</dc:title>
</cp:coreProperties>
</file>